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06E-B711-42CF-856B-AFE70FD4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E1C-2AB1-4601-BDDA-B4888875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263-E223-458C-BB74-EBF949B4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9E5-2C27-48A2-AA77-65D1042E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32E-3F22-4C18-B47E-E2E1C9CF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5D4-43B1-445B-B26C-402D7B1F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5FA-EE47-4852-886D-8B421477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AD1-A5C1-4D4B-8D01-5C009089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F52-BB74-4F9D-94C4-D9FD5A5E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1D5-B7A2-4A84-B994-6D212C60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C34-986B-4E1F-809B-C3171D95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ED1-799A-49E5-8E36-27E9F427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8D52-C2FE-4727-90CB-4378D60420D5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APITOL 1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SISTEME DE OPE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NAVIGARE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DIRECTOR PROI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944640" y="1143000"/>
            <a:ext cx="74134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SUNET  -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ine 1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47" name="Imagine 4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610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AUDIO CU FUN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ine 4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Imagine 10" descr=""/>
          <p:cNvPicPr/>
          <p:nvPr/>
        </p:nvPicPr>
        <p:blipFill>
          <a:blip r:embed="rId2"/>
          <a:stretch/>
        </p:blipFill>
        <p:spPr>
          <a:xfrm>
            <a:off x="4714920" y="1428840"/>
            <a:ext cx="3881520" cy="2916000"/>
          </a:xfrm>
          <a:prstGeom prst="rect">
            <a:avLst/>
          </a:prstGeom>
          <a:ln w="0">
            <a:noFill/>
          </a:ln>
        </p:spPr>
      </p:pic>
      <p:pic>
        <p:nvPicPr>
          <p:cNvPr id="51" name="Imagine 34" descr=""/>
          <p:cNvPicPr/>
          <p:nvPr/>
        </p:nvPicPr>
        <p:blipFill>
          <a:blip r:embed="rId3"/>
          <a:stretch/>
        </p:blipFill>
        <p:spPr>
          <a:xfrm>
            <a:off x="2143080" y="350028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REARE PAGINI WIKI 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– ADAUGARE FIS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DAUGARE IMAGINI SUNETE PE WI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STARE EVALUARI P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a7med yones</cp:lastModifiedBy>
  <dcterms:modified xsi:type="dcterms:W3CDTF">2012-02-12T19:32:54Z</dcterms:modified>
  <cp:revision>2</cp:revision>
  <dc:subject/>
  <dc:title>CAPITOL 1  </dc:title>
</cp:coreProperties>
</file>